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086E-8F73-4B0C-A431-BB52B0D1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311-D9EE-4591-B3D1-D8F0ED49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411-AC80-46D1-AEE0-97EF06D3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475-536B-4265-93A9-226BAB1FD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2997-7FA8-4DC0-88AA-53242271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AAB3-9BD2-4ABF-B136-ECC32638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046B-ED1B-4908-A4F8-972B15C6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3925-5880-4CD1-A32A-8AD1FF31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B94C-9F9B-4DE7-B1C5-EDD4242F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CA18-E988-452A-A65B-49A08352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BB91-B6F6-4340-A8F9-1A08222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FD0-62C1-43C1-AC8E-B6D5795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DF6-D30F-43E3-ACB5-600C92DE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280E-1605-464A-AD4B-361FCCC4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26A1-E612-471E-B926-608D729E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5D9E-8FE7-4CE3-B7BF-1DA2BD51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896C-7F78-406B-AD8E-5598834F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B07-9980-4164-943D-2C76406D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E85-02FE-49DF-B06E-E354DF5A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9E1C-29E6-47F0-8881-6B061D8C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261-918B-4FC9-842D-404765D3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C11-0B31-4973-B869-C32E6A8D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EB4-5254-4D32-8B7B-1193998E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C56D-6B4F-462C-905B-CBA891FF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71B0-19B8-40AC-9D2D-F577891336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91B1-E7C0-4313-8EB7-255DC5163EC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the leader of the group who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ip spoke bad about Orlick to the girl he lik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09T23:56:33Z</dcterms:modified>
  <cp:revision>26</cp:revision>
  <dc:subject/>
  <dc:title>Are You Smarter  Than a 5th Grader?</dc:title>
</cp:coreProperties>
</file>